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5D0F-6B70-44C3-9F2C-B4619D2A8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49D8-2171-4749-8404-A763DA0A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0DE7-C6C3-4BA4-8E5C-A53E7C17F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02BB-D453-41FA-B7C9-53AE43CD9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B2BC-A736-4D59-B9FC-A2FCCF1A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932F-47F6-48C6-AAFB-5569FBB8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A298-04A8-45E6-838B-EF1D489E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7AAB-338B-4AC0-93E8-71A72C56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21B4-9429-4684-A36E-16B77ABC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782E-C30A-4F52-8765-71693383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D357-8FEB-44B8-AD7B-03B0BFB1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127C-88B4-4CEA-8623-902F93AC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5417-1AD3-4070-B63C-16A64C82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87CC-166D-4B08-8997-438A4B3E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C0E9-BAF7-4422-866F-EA949241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FE61-853E-4C8B-8467-67CE4C913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45E2-6376-4E54-BCF4-7AD279CFC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5221-3944-4211-8E9D-75E5119B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75E8-EAD8-4B57-864D-0887A8A3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89E8-D70C-4007-8C82-E7CBA5CD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61F8-CF0F-4B24-A654-66A406BA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CAE5-4C51-4DEC-BC7F-C29366C3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BE99-78EB-4D23-B819-EC70EACE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97DE-7E74-4364-9852-FC83E59D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A5C0-AE93-4A12-AA60-871CC36230C3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CA23-4020-4724-82AC-EAC9C4E9428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9566-B8BD-47CC-8E0C-CC23EDF3BCB8}" type="datetime">
              <a:rPr b="0" lang="en-US" sz="1200" spc="-1" strike="noStrike">
                <a:solidFill>
                  <a:srgbClr val="ffffff"/>
                </a:solidFill>
                <a:latin typeface="Tahom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4FE6-8FC3-4618-AA0E-A9CE6F93AAC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Aim:  What do we think the Byzantine Empire was all about? </a:t>
            </a:r>
            <a:br>
              <a:rPr sz="3200"/>
            </a:b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L43Unit5intro</a:t>
            </a:r>
            <a:br>
              <a:rPr sz="3200"/>
            </a:b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This unit is called : Expanding Zones of Encounter and Exchang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w:  Based on these images--What do you think the Byzantine Empire might have been like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Content Placeholder 6" descr="justinian.jpg"/>
          <p:cNvPicPr/>
          <p:nvPr/>
        </p:nvPicPr>
        <p:blipFill>
          <a:blip r:embed="rId1"/>
          <a:stretch/>
        </p:blipFill>
        <p:spPr>
          <a:xfrm>
            <a:off x="1143000" y="3919680"/>
            <a:ext cx="1981080" cy="2668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155" name="Content Placeholder 4" descr="hagia-sophia.jpg"/>
          <p:cNvPicPr/>
          <p:nvPr/>
        </p:nvPicPr>
        <p:blipFill>
          <a:blip r:embed="rId2"/>
          <a:stretch/>
        </p:blipFill>
        <p:spPr>
          <a:xfrm>
            <a:off x="4419720" y="3981600"/>
            <a:ext cx="3429000" cy="28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0520" y="2282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) Lega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der Justinian, the Byzantine Empire reached its height in culture and prosper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ilt the Hagia Soph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86800" indent="-2257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eatest architectural achiev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86800" indent="-2257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gnificent use of arches to support huge domed roo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86800" indent="-2257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rst a church, then a mosque – now a muse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86800" indent="-2257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Content Placeholder 4" descr="JustinianIIcrossgift.jpg"/>
          <p:cNvPicPr/>
          <p:nvPr/>
        </p:nvPicPr>
        <p:blipFill>
          <a:blip r:embed="rId1"/>
          <a:stretch/>
        </p:blipFill>
        <p:spPr>
          <a:xfrm>
            <a:off x="4881600" y="1600200"/>
            <a:ext cx="1562040" cy="1981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Justinian - 6thcCiborium4SantiCoronati.jpg"/>
          <p:cNvPicPr/>
          <p:nvPr/>
        </p:nvPicPr>
        <p:blipFill>
          <a:blip r:embed="rId2"/>
          <a:stretch/>
        </p:blipFill>
        <p:spPr>
          <a:xfrm>
            <a:off x="6248520" y="2895480"/>
            <a:ext cx="2333520" cy="1954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Justinian - 6thHerculesPlate.jpg"/>
          <p:cNvPicPr/>
          <p:nvPr/>
        </p:nvPicPr>
        <p:blipFill>
          <a:blip r:embed="rId3"/>
          <a:stretch/>
        </p:blipFill>
        <p:spPr>
          <a:xfrm>
            <a:off x="4952880" y="4419720"/>
            <a:ext cx="1683000" cy="1677960"/>
          </a:xfrm>
          <a:prstGeom prst="rect">
            <a:avLst/>
          </a:prstGeom>
          <a:ln w="0">
            <a:noFill/>
          </a:ln>
        </p:spPr>
      </p:pic>
      <p:pic>
        <p:nvPicPr>
          <p:cNvPr id="180" name="Content Placeholder 4" descr="hagia-sophia.jpg"/>
          <p:cNvPicPr/>
          <p:nvPr/>
        </p:nvPicPr>
        <p:blipFill>
          <a:blip r:embed="rId4"/>
          <a:stretch/>
        </p:blipFill>
        <p:spPr>
          <a:xfrm>
            <a:off x="6095880" y="380880"/>
            <a:ext cx="2667240" cy="22370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Aim:  How did Great Schism effect religious and Byzantine history? </a:t>
            </a:r>
            <a:br>
              <a:rPr sz="3200"/>
            </a:b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L45Byzantinewrapup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Now:  Copy and Answer the following Regents ques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533520" y="3200400"/>
            <a:ext cx="8064360" cy="3289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at is the Byzantine Empire all about?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nalyze the documents together as a group.  Organize the new information you gather from the documents about the Byzantine empire in either a chart or bulleted outline that contains the following categories: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Tahoma"/>
              </a:rPr>
              <a:t>Government, Religion, Culture, Economics, Legac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0" y="762120"/>
          <a:ext cx="9144000" cy="56545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o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a5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lig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a5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ul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a5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conomic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a5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egac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a500"/>
                    </a:solidFill>
                  </a:tcPr>
                </a:tc>
              </a:tr>
              <a:tr h="51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Freedoms for citize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Monarchy – Emperor Justinia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Justinian wrote their legal co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They have a justice system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(doc2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-- main religion is Christianity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-- new style of Christianity(4)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-Orthodox !!! (6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- Strict rules on worship and follow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Religion is very importan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Build fancy buildings (churches) (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Different people spoke dif languages  (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Laws on marriage/ divor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Constantinople = center of trade/ capital city (doc1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Conquered land to increase their resources and money (3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Control trade all around the Med. Sea (3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wealthy (5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- Influenced the Russian religion(4)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</a:tbl>
          </a:graphicData>
        </a:graphic>
      </p:graphicFrame>
      <p:sp>
        <p:nvSpPr>
          <p:cNvPr id="159" name="TextBox 4"/>
          <p:cNvSpPr/>
          <p:nvPr/>
        </p:nvSpPr>
        <p:spPr>
          <a:xfrm>
            <a:off x="2085480" y="228600"/>
            <a:ext cx="499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zantine Empire– History as a mystery ac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228240" y="19051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w:  Copy and answer the following Regents practice Ques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Aim:  How did Emperor Justinian change the Byzantine Empire? L44 Justinian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457200" y="2971800"/>
            <a:ext cx="8319960" cy="3886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.  Emperor Justinia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) Basic Inf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Justinian ruled from 527-56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mperor had all the laws of ancient Rome collected, revised, and organiz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Content Placeholder 6" descr="justinian.jpg"/>
          <p:cNvPicPr/>
          <p:nvPr/>
        </p:nvPicPr>
        <p:blipFill>
          <a:blip r:embed="rId1"/>
          <a:stretch/>
        </p:blipFill>
        <p:spPr>
          <a:xfrm>
            <a:off x="6172200" y="1295280"/>
            <a:ext cx="2066760" cy="2784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66" name="Content Placeholder 5" descr="Justianian Code.jpg"/>
          <p:cNvPicPr/>
          <p:nvPr/>
        </p:nvPicPr>
        <p:blipFill>
          <a:blip r:embed="rId2"/>
          <a:stretch/>
        </p:blipFill>
        <p:spPr>
          <a:xfrm>
            <a:off x="4191120" y="4419720"/>
            <a:ext cx="3247920" cy="2438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code became the  basis for Western European law in 1100’s A.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d today as basis for international la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Content Placeholder 4" descr="Justinian Code 2.jpg"/>
          <p:cNvPicPr/>
          <p:nvPr/>
        </p:nvPicPr>
        <p:blipFill>
          <a:blip r:embed="rId1"/>
          <a:stretch/>
        </p:blipFill>
        <p:spPr>
          <a:xfrm>
            <a:off x="5060880" y="1808280"/>
            <a:ext cx="3213000" cy="4114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) Military goa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etermined to revive grandeur of ancient Rom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Content Placeholder 4" descr="Justinian 2.jpg"/>
          <p:cNvPicPr/>
          <p:nvPr/>
        </p:nvPicPr>
        <p:blipFill>
          <a:blip r:embed="rId1"/>
          <a:stretch/>
        </p:blipFill>
        <p:spPr>
          <a:xfrm>
            <a:off x="5257800" y="1828800"/>
            <a:ext cx="3000240" cy="4530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Content Placeholder 4" descr="Byzantine Empire 565 AD.jpg"/>
          <p:cNvPicPr/>
          <p:nvPr/>
        </p:nvPicPr>
        <p:blipFill>
          <a:blip r:embed="rId1"/>
          <a:stretch/>
        </p:blipFill>
        <p:spPr>
          <a:xfrm>
            <a:off x="2057400" y="304920"/>
            <a:ext cx="5100480" cy="33717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73" name=""/>
          <p:cNvSpPr txBox="1"/>
          <p:nvPr/>
        </p:nvSpPr>
        <p:spPr>
          <a:xfrm>
            <a:off x="457200" y="3352320"/>
            <a:ext cx="784872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conquered North Africa, Italy, and Southern Spai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stablished a trade nation around the Med. Se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Content Placeholder 4" descr="Byzantine HorseRace.jpg"/>
          <p:cNvPicPr/>
          <p:nvPr/>
        </p:nvPicPr>
        <p:blipFill>
          <a:blip r:embed="rId1"/>
          <a:stretch/>
        </p:blipFill>
        <p:spPr>
          <a:xfrm>
            <a:off x="304920" y="1143000"/>
            <a:ext cx="4038480" cy="3352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75" name=""/>
          <p:cNvSpPr txBox="1"/>
          <p:nvPr/>
        </p:nvSpPr>
        <p:spPr>
          <a:xfrm>
            <a:off x="4419360" y="533520"/>
            <a:ext cx="426708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) Problems ar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satisfaction arose with Justinian’s government minis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iot-racing factions united and rioted, demanding removal of unpopular offici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ed to overthrow Justin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 awesome wife– Empress Theodora saves the day!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12:48:05Z</dcterms:created>
  <dc:creator>Greg</dc:creator>
  <dc:description/>
  <dc:language>en-US</dc:language>
  <cp:lastModifiedBy>NYCDOE</cp:lastModifiedBy>
  <dcterms:modified xsi:type="dcterms:W3CDTF">2013-01-07T12:26:44Z</dcterms:modified>
  <cp:revision>21</cp:revision>
  <dc:subject/>
  <dc:title>Justinian: The Good and the Bad</dc:title>
</cp:coreProperties>
</file>